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AFE-2C79-420B-BE41-A555077A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36D-A4E7-4B70-9D31-47B49873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79A-846A-422C-BA64-F57372C6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C02-9A67-4584-BB29-BBC63F00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FC8-82E4-482F-A125-BE8F17A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0B9-22E3-4188-AB09-CF5F36B2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4A2-5430-497D-BC4C-DB533182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6C9-4590-4BA8-A93E-0452F7CE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8A4-2000-40F1-A4C3-F8023BB6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A98-4FFB-40E6-8605-148CCA0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EEE-1982-4258-933B-27DECDEE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7DE-6294-4889-B9AF-CD2FFE22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E2C8-0D0F-442B-80E4-12AD71957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itcult.ru/u/dd/news/10807/image.jpg" TargetMode="External"/><Relationship Id="rId2" Type="http://schemas.openxmlformats.org/officeDocument/2006/relationships/hyperlink" Target="http://sch10.soligorsk.edu.by/ru/sm.aspx?guid=9153" TargetMode="External"/><Relationship Id="rId3" Type="http://schemas.openxmlformats.org/officeDocument/2006/relationships/hyperlink" Target="https://img.labirint.ru/rcimg/089f5402cda5e5a973862799f7718378/1920x1080/comments_pic/1222/09labntvt1338573583.jpg?1338573589" TargetMode="External"/><Relationship Id="rId4" Type="http://schemas.openxmlformats.org/officeDocument/2006/relationships/hyperlink" Target="http://rasskajem.ru/wp-content/uploads/2012/06/Metro-04.jpg" TargetMode="External"/><Relationship Id="rId5" Type="http://schemas.openxmlformats.org/officeDocument/2006/relationships/hyperlink" Target="https://nukadeti.ru/content/images/essence/tale/1045/2463.jpg" TargetMode="External"/><Relationship Id="rId6" Type="http://schemas.openxmlformats.org/officeDocument/2006/relationships/hyperlink" Target="https://nukadeti.ru/content/images/essence/tale/1045/2460.jpg" TargetMode="External"/><Relationship Id="rId7" Type="http://schemas.openxmlformats.org/officeDocument/2006/relationships/hyperlink" Target="https://vini-puh.ru/wp-content/uploads/2018/01/Metro_-_Nikolaj_Nosov_2.jpg" TargetMode="External"/><Relationship Id="rId8" Type="http://schemas.openxmlformats.org/officeDocument/2006/relationships/hyperlink" Target="https://i.ytimg.com/vi/2g18kO6APwQ/maxresdefault.jpghttps://i.ytimg.com/vi/2g18kO6APwQ/maxresdefault.jpg" TargetMode="External"/><Relationship Id="rId9" Type="http://schemas.openxmlformats.org/officeDocument/2006/relationships/hyperlink" Target="https://egorschool13.edumsko.ru/uploads/2000/1075/section/48795/img134.jpg" TargetMode="External"/><Relationship Id="rId10" Type="http://schemas.openxmlformats.org/officeDocument/2006/relationships/hyperlink" Target="https://fhd.multiurok.ru/f/f/2/ff29720e61928b29cd6bc2d40d9dc44a6d2552e6/phpS7ZlVd_urok-Netro_7_1.jpeghttps://fhd.multiurok.ru/f/f/2/ff29720e61928b29cd6bc2d40d9dc44a6d2552e6/phpS7ZlVd_urok-Netro_7_1.jpeg" TargetMode="External"/><Relationship Id="rId11" Type="http://schemas.openxmlformats.org/officeDocument/2006/relationships/hyperlink" Target="http://img0.safereactor.cc/pics/post/full/&#1084;&#1077;&#1090;&#1088;&#1086;-&#1085;&#1072;&#1088;&#1091;&#1096;&#1077;&#1085;&#1080;&#1077;-&#1088;&#1080;&#1089;&#1091;&#1085;&#1086;&#1082;-2296858.jpeg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11280" y="5331600"/>
            <a:ext cx="8207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Шепеленко Татьяна Анатольевн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Персональный сайт: </a:t>
            </a:r>
            <a:r>
              <a:rPr b="1" lang="en-US" sz="2600" spc="-1" strike="noStrike">
                <a:solidFill>
                  <a:srgbClr val="009900"/>
                </a:solidFill>
                <a:latin typeface="Monotype Corsiva"/>
              </a:rPr>
              <a:t>www.shepelenko.ucoz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68360" y="-242640"/>
            <a:ext cx="8207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Муниципальное казённое 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Рамонская средняя общеобразовательная школа №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Рамон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Воронеж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1"/>
          <p:cNvPicPr/>
          <p:nvPr/>
        </p:nvPicPr>
        <p:blipFill>
          <a:blip r:embed="rId1"/>
          <a:stretch/>
        </p:blipFill>
        <p:spPr>
          <a:xfrm>
            <a:off x="2268360" y="177624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икогда не подсовывай пальцы под движущийся поручень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 рискуешь получить тяжёлую травм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rcRect l="4326" t="0" r="4326" b="0"/>
          <a:stretch/>
        </p:blipFill>
        <p:spPr>
          <a:xfrm>
            <a:off x="741240" y="1268280"/>
            <a:ext cx="7734600" cy="5432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216000" y="189000"/>
            <a:ext cx="8785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гда не занимайся такими глупостями, как бросание монет или других мелких предметов на лестницу эскалатора. Это может вызвать поломку дорогого обору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1146240" y="1557360"/>
            <a:ext cx="6924600" cy="50482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 эскалаторе метро будь внимателен, чтобы не получить тяжёлую трав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689800" cy="55864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4284720" y="2125800"/>
            <a:ext cx="464508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 дети и подростки, сойдя со ступенек эскалатора, останавливаются, поджидая своих приятелей. Этого делать нельзя! Ведь сзади находятся другие пассажиры, которым остановившиеся меш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16000" y="189000"/>
            <a:ext cx="3902040" cy="6553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дземном вестибюле станции метро необходимо быть внимательными и осторо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485640" y="1197000"/>
            <a:ext cx="8245440" cy="5545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"/>
          <p:cNvSpPr/>
          <p:nvPr/>
        </p:nvSpPr>
        <p:spPr>
          <a:xfrm>
            <a:off x="216000" y="189000"/>
            <a:ext cx="8785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той напротив дверей прибывшего на станцию поезда. Дай возможность пассажирам спокойно выти из ваг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914400" y="1197000"/>
            <a:ext cx="7388280" cy="54975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8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 осторожен, когда заходишь в вагон. Если на станции собралось много людей, во время посадки может начаться толкучка и тебя могут прижать к вагону или даже столкнуть на рель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rcRect l="5114" t="0" r="4329" b="0"/>
          <a:stretch/>
        </p:blipFill>
        <p:spPr>
          <a:xfrm>
            <a:off x="431640" y="1557360"/>
            <a:ext cx="8280720" cy="51433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5292720" y="2813040"/>
            <a:ext cx="37083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прислоняйся к автоматическим дверям вагонов метр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324000" y="190440"/>
            <a:ext cx="4716360" cy="64454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115920"/>
            <a:ext cx="9144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  <a:ea typeface="Calibri"/>
              </a:rPr>
              <a:t>Использованные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://litcult.ru/u/dd/news/10807/imag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http://sch10.soligorsk.edu.by/ru/sm.aspx?guid=915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https://img.labirint.ru/rcimg/089f5402cda5e5a973862799f7718378/1920x1080/comments_pic/1222/09labntvt1338573583.jpg?133857358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http://rasskajem.ru/wp-content/uploads/2012/06/Metro-0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https://nukadeti.ru/content/images/essence/tale/1045/24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6"/>
              </a:rPr>
              <a:t>https://nukadeti.ru/content/images/essence/tale/1045/24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7"/>
              </a:rPr>
              <a:t>https://vini-puh.ru/wp-content/uploads/2018/01/Metro_-_Nikolaj_Nosov_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8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8"/>
              </a:rPr>
              <a:t>https://i.ytimg.com/vi/2g18kO6APwQ/maxresdefault.jpghttps://i.ytimg.com/vi/2g18kO6APwQ/maxresdefault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9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9"/>
              </a:rPr>
              <a:t>https://egorschool13.edumsko.ru/uploads/2000/1075/section/48795/img13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0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0"/>
              </a:rPr>
              <a:t>https://fhd.multiurok.ru/f/f/2/ff29720e61928b29cd6bc2d40d9dc44a6d2552e6/phpS7ZlVd_urok-Netro_7_1.jpeghttps://fhd.multiurok.ru/f/f/2/ff29720e61928b29cd6bc2d40d9dc44a6d2552e6/phpS7ZlVd_urok-Netro_7_1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1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1"/>
              </a:rPr>
              <a:t>http://img0.safereactor.cc/pics/post/full/%D0%BC%D0%B5%D1%82%D1%80%D0%BE-%D0%BD%D0%B0%D1%80%D1%83%D1%88%D0%B5%D0%BD%D0%B8%D0%B5-%D1%80%D0%B8%D1%81%D1%83%D0%BD%D0%BE%D0%BA-2296858.jpe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ds02.infourok.ru/uploads/ex/0f16/0007b035-a8c1dd4b/hello_html_7353cb2b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://worldofschool.ru/public/page_images/1123/77_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4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media.timeout.com/images/103473159/imag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5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nukadeti.ru/content/images/essence/tale/1045/246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://vokabre.com/wordpress/uploads/2017/08/vokabre-paintings-moscow-album-2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-6480" y="24210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00"/>
                </a:solidFill>
                <a:latin typeface="Monotype Corsiva"/>
                <a:ea typeface="Calibri"/>
              </a:rPr>
              <a:t>Правила поведения пассажиров в метр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етро пассажиры должны соблюдать определённая пр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523800" y="836640"/>
            <a:ext cx="8096400" cy="5788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6156360" y="981000"/>
            <a:ext cx="2843280" cy="558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ти, по которым ходят поезда метро, нигде не пересекаются ни с путями других транспортных средств, ни с путями пассажиров. Это позволяет поездам метро ездить с большой скоростью, оставаясь при этом самым безопасным видом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810400" cy="53215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2203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8"/>
          <p:cNvSpPr/>
          <p:nvPr/>
        </p:nvSpPr>
        <p:spPr>
          <a:xfrm>
            <a:off x="216000" y="189000"/>
            <a:ext cx="8785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метро пассажирам нужно соблюдать правила безопасно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rcRect l="0" t="18503" r="0" b="6953"/>
          <a:stretch/>
        </p:blipFill>
        <p:spPr>
          <a:xfrm>
            <a:off x="527040" y="836640"/>
            <a:ext cx="8163000" cy="58341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8"/>
          <p:cNvSpPr/>
          <p:nvPr/>
        </p:nvSpPr>
        <p:spPr>
          <a:xfrm>
            <a:off x="324000" y="2827440"/>
            <a:ext cx="51116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нь осторожными нужно быть, спускаясь на эскалат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5724360" y="231840"/>
            <a:ext cx="2808360" cy="6389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8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ять надо с правой стороны, лицом по ходу эскалатора, и во время спуска держаться за поруч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542880" y="1197000"/>
            <a:ext cx="8058240" cy="5419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108000" y="5452920"/>
            <a:ext cx="88218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скалатор может резко остановиться. Если ты не будешь держаться за поручни, от резкого толчка можно упасть и получить трав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997600" cy="5111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8"/>
          <p:cNvSpPr/>
          <p:nvPr/>
        </p:nvSpPr>
        <p:spPr>
          <a:xfrm>
            <a:off x="5219640" y="2847960"/>
            <a:ext cx="37814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идеть на ступенях эскалатора и ставить на поручни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216000" y="181080"/>
            <a:ext cx="4752720" cy="6534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7:43:07Z</dcterms:created>
  <dc:creator>user</dc:creator>
  <dc:description/>
  <dc:language>en-US</dc:language>
  <cp:lastModifiedBy>user</cp:lastModifiedBy>
  <dcterms:modified xsi:type="dcterms:W3CDTF">2020-07-02T12:04:14Z</dcterms:modified>
  <cp:revision>149</cp:revision>
  <dc:subject/>
  <dc:title>Слайд 1</dc:title>
</cp:coreProperties>
</file>